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24E7-95D1-4EA9-8426-FE74F239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0EDC-00BF-4896-8FAE-17C13609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1F9-043C-4BEB-B28D-ED2ACFA7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7EF9-7518-4281-BB4D-FC852342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CA5F-C915-4F9D-98D9-BB4572BC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3EF6-0F4C-435B-98FC-41506B12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57D1-891A-4B2F-9454-B86C087B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CBA3-E04B-4712-B68F-C0CD3093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B0DF-3461-4A1E-9F0D-401CA011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3359-3E17-42CA-8870-C4634288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A5A5-7460-4725-8FF2-04E8757C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017-5265-4FA1-800D-74DADBE3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5e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A748-4A7B-4B41-A255-B179AB93B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5e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начение и место аквариума в эколого-педагогическо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олн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расимов 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вариумом (от латинского слова aqua — вода) называется искусственный водоем, предназначенный для содержания и разведения водных животных и растений, а также для наблюдений за их жизнью и развит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вариум в живом уголке – это не просто емкость с водой, в которой живут рыбки. Он должен украшать помещение, привлекать внимание детей, за рыбками должно быть легко и приятно наблюдать, аквариум должен быть доступ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ольшом помещение его можно использовать в качестве стенки или шир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 аквариуме планируется посадить живые растения, слой грунта в нем должен быть не менее 3–5 см, а если все растения будут искусственными, достаточно положить на дно столько грунта, чтобы нормально закрепить раст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украшения аквариума, придания ему декоративного вида в него помещают различные кам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аквариум объемом более 90 л, в нем имеет смысл устанавливать наружный фильтр. В более мелких аквариумах, как правило, достаточно внутреннего фильтра. Стандартный фильтр должен прокачивать 2–3 объема аквариума в час. Однако, если в аквариуме много живых растений, достаточно 1–2 объемов в ч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вещение в аквариуме производится лампами накаливания и люминесцентными ламп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ы аквариумных светильников: а – с люминисцентной лампой; б – с накаливания лампой; в – комбинирован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4437000"/>
            <a:ext cx="273672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5000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аквариумами рекомендуется ухаживать 1 раз в неделю. Уход включает в себя контроль за состоянием рыб и растений, очистку стекол, промывание внутреннего фильтра, чистку грунта с одновременной заменой старой воды на свежую. Еженедельно заменяется 1/4—1/6 от всего объема воды в аквариуме. Также проводится чистка элементов оформления и искусственных растений, если они 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вые растения приводятся в порядок, удаляются отмершие и пожелтевшие листья, гнилые стеб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квариум в разных возрастных групп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 второй группе младшего возраста в уголке природы помещают аквариум с рыбкой. Для малышей, исходя из особенностей их восприятия, надо подобрать рыбку ярко окрашенную, ведущую в течение большей части года активный образ жизни, охотно поедающую корм. Это обыкновенная золотая рыбка, золотистый и серебристый караси. Они имеют типичную форму пресноводных рыб, привлекательны по окраске, достаточно подвиж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72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редней группе в аквариуме содержатся два вида рыб, отличающихся по внешнему виду и повадкам: медлительный прудовой карась и юркие подвижные верхоплавки; разновидности золотой рыоки -- вуалехвост, телескоп и одновременно (в другом аквариуме) рыбки из местных водоемов. Различия во внешнем виде и повадках названных рыб достаточно заметны и могут быть обнаружены детьми при наблюдении. В уголке природы средней группы можно содержать тех же канаре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таршей группе в аквариумах хорошо содержать теплолюбивых живородящих и икромечущих рыб -- гуппи, меченосцев, скалярий и др. Не меньший интерес у детей вызовет и наблюдение за вьюном. Эта маленькая рыбка местных водоемов -- своеобразный барометр: перед наступлением ненастной погоды у нее повышается двигательная актив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5858"/>
            </a:gs>
            <a:gs pos="50000">
              <a:srgbClr val="c0c0c0"/>
            </a:gs>
            <a:gs pos="100000">
              <a:srgbClr val="5858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дготовительной группе рыбы в аквариумах (их должно быть 2--3 вида) также разнообразные: из местных водоемов (любая), а также теплолюбивые (живородящие и икромечущие). Каждая их этих групп требует особых, хотя и не очень сложных условий содерж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07:43:58Z</dcterms:created>
  <dc:creator>User</dc:creator>
  <dc:description/>
  <dc:language>en-US</dc:language>
  <cp:lastModifiedBy>User</cp:lastModifiedBy>
  <dcterms:modified xsi:type="dcterms:W3CDTF">2010-05-28T07:52:51Z</dcterms:modified>
  <cp:revision>2</cp:revision>
  <dc:subject/>
  <dc:title>Значение и место аквариума в эколого-педагогическом </dc:title>
</cp:coreProperties>
</file>